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B6F5-D55D-4902-880A-88EB3BD6DE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899-D64A-4DE1-BF01-1C7052AE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58A-39E1-452C-9073-E60C7223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F8A-8A7C-45C1-8DEC-00442FA2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B7E-216B-4046-B47C-4299BDBA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B167-3D31-4721-B1FB-B3C42E46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836C-DBDB-476C-A64D-1AEF9ED5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8478-8C6F-4804-8F6D-D96EA513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8D15-026A-408F-A2CB-F1CFAF31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CA7E-6B38-4230-8356-C92B9018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4AE8-CDCE-4E7C-9EE8-10B1B554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8723-38F4-46B1-9345-9D224274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3DF-1BCF-43D5-81D6-E4692865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ECE3-4695-4F8D-88E6-86F77D6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9A13-5AA9-4C52-AB57-563D717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E489-1484-4240-B66A-7F57B1AF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805B-3216-44B7-A119-230D6454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03EF-E29D-4B4F-99A0-4AE9EE57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EE0-C58C-4B0B-B12E-F338AB43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499-E53F-4B37-A54F-9F1D1D5E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480-7D7F-4073-A7AC-60E4E78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92A-50B6-4440-9D51-9CF9523A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3A7-40CF-4438-BD2F-5847FCED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2C1-C1D8-428E-9B07-C6C4099B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9EC-8E68-405D-8AC0-590F12C9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3D98-DA7E-4F0F-AAA7-1C98C5FED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FE71-6C02-4597-B40F-801CC13568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43000" y="304920"/>
            <a:ext cx="685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cc"/>
                </a:solidFill>
                <a:latin typeface="Comic Sans MS"/>
              </a:rPr>
              <a:t>Math vocabulary</a:t>
            </a:r>
            <a:endParaRPr b="0" lang="en-US" sz="6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2590920"/>
            <a:ext cx="868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Lessons 6-10 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&amp;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Investigation 1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U.S. Customary System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ystem of measurement used almost exclusively in the United Stat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Perimete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distance around a closed, flat shap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ounting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numbers used to count; the members of the set (1,2,3,4,5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Negativ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less than zer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ber 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1981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Comic Sans MS"/>
              </a:rPr>
              <a:t>A line for representing and graphing numbers. Each point on the line corresponds to a number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Whol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members of the set (0,1,2,3,4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Celsius 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ven Numbe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can be divided by 2 without a remainder; members of the set (-4,-2,0,2,4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Fahrenheit Scale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dd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have a remainder of 1 when divided by 2; members of the set (-3,-1,1,3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Fraction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name parts of a who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display of numbers with an indicator to show the value of a certain meas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quenc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list of numbers arranged according to a certain ru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Ter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 in a sequ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losed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in which the possible responses are limite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Histogra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2362320"/>
            <a:ext cx="8001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A method of displaying a range of data. A histogram is a special type of bar graph that displays data in intervals of equal size with </a:t>
            </a:r>
            <a:r>
              <a:rPr b="1" i="1" lang="en-US" sz="4300" spc="-1" strike="noStrike" u="sng">
                <a:solidFill>
                  <a:srgbClr val="ffffcc"/>
                </a:solidFill>
                <a:uFillTx/>
                <a:latin typeface="Comic Sans MS"/>
              </a:rPr>
              <a:t>no</a:t>
            </a: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 space between them.</a:t>
            </a:r>
            <a:endParaRPr b="0" lang="en-US" sz="4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020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pen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that does not limit the possible respons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urve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method of collecting data about a particular popula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Denomin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bottom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er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top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Endpoints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Points at which segments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traight collection of points extending in opposite directions without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Metric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n international system of measurement based on multiples of t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Ra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that begins at a point and continues without end in one dire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gment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with two distinct endpoin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2:06:29Z</dcterms:created>
  <dc:creator>one1</dc:creator>
  <dc:description/>
  <dc:language>en-US</dc:language>
  <cp:lastModifiedBy>RomaK</cp:lastModifiedBy>
  <dcterms:modified xsi:type="dcterms:W3CDTF">2015-09-04T07:43:19Z</dcterms:modified>
  <cp:revision>4</cp:revision>
  <dc:subject/>
  <dc:title>No Slide Title</dc:title>
</cp:coreProperties>
</file>